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6F94-4802-4995-9F07-A30E3A38C9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F59A-D494-4F39-8902-D9569A4FAE2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220-5C1D-4CE7-BB52-0839E7C3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A1A-42A2-4A6F-9761-940B1934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6966-9C2E-43F5-A3B9-0986701C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62252-D36D-4061-B747-AB4DED12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46B9-9CAE-4207-BFF0-7A5CFD2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9A251-3DB6-4F91-81F5-36A258D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500AB-2A45-4EDF-AC66-DC04537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A9B8D-1918-48CE-9C18-11E80A7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122A5-669A-48E3-A768-B72F2F5C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6D3BD-A8AD-492B-838B-0477027E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CC6A6-CCE7-4EB6-9216-D0463F1B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9593-D195-4011-BE98-87A65F8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D54-F0B1-4594-BFB8-6D6EB630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D4476-64FD-4C7C-8373-F461A87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B5CF3-A7CF-4367-9F25-11B862A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DC1E-C52C-45C9-8AFC-DF3085E6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76A2B-6BAE-4EFA-A54A-9035211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CD96-7213-4383-B85E-E369754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C103E-A6D2-4C46-9EE2-5705539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1CBE-1B26-41C5-A642-C83AB00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FFEBA-B108-4DEC-9DEA-585476E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1549-B65B-44A0-A023-BAD61250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AD134-895D-4997-B1B7-514F6C1E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FDE-4F11-4CAB-BFAF-5785C940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47CC3-E5D1-42B9-8FCD-B32C7481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90E2-D560-4075-8FF3-A80ED175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2AA23-E2BA-4DDE-9DAB-57435F86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6A4EF-8D38-409F-A015-282F27A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0CE34-490B-4C95-B8ED-B9077094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D1ECF-DE1E-44B7-B02B-13DD814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7A56-C356-4B04-9B06-304218B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B9D5-48C0-4A9E-B7E9-AFFFA2FE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A273F-C171-48E1-88C2-EA3C27A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76DF0-DA2A-407F-B49A-E5A4B3E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9F2A-0D34-4D47-A5D3-CE57295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D937F-D2EB-453F-84E3-EEC6A3B2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C1445-66B9-4C5F-AFE4-03B9ECAF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68A5-C02F-462D-B039-A0AB1D59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8FFBF-F1A2-4171-B2C8-7F1E4100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4AD0C-4E3E-466C-A1BE-0D5F723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B6831-C2E9-4FC9-BA73-A7A15AF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488B-1FAA-4FB6-89B3-7B7FA514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B37A3-8A87-42F0-A2DF-3E5FED58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BEE25-A72B-457E-AE81-09AE0C06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5653-90C7-45B2-81A2-8A91168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B042-D80E-49F3-A6CC-7D199653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99009-9CB3-423F-88EB-82D05DA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63AE8-B82D-4C3D-B7B3-0676669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AD27-1704-4F79-9817-A531DFE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F51AB-636D-463D-860B-95A71CC7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256E5-95FF-4128-A957-365B0624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B82-5EC1-4BDB-96AD-5E12B7D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C3CF-6393-4FDC-829B-63778A9D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8FD-544D-4472-8C2E-4C0C50A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FA99-DCE3-4320-99F8-33EB125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614-85C8-4081-B410-CB936BF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F8C-9226-43F2-B27B-51716642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C6C-2384-4CCE-8083-257D3C7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9B9-F727-4F67-BE94-8D14C18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8AF-13AC-48AA-9522-91B6FF6F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89A-CBD6-4B63-96BB-7299AB2B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DAD5-15CC-43DF-9B64-9B6DB4DC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BC3E-6FC6-48A0-ABC6-D3132F78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902A-7E2E-4728-8037-C3D95A2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A82D-344F-49CD-A39D-E63418B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BB12-F8FC-449F-9053-9883C95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5F33-6C33-4173-B610-27292350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0CD-2CDA-4AB0-8F55-870898DC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3057-55FF-4692-8865-F708197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4FD8-849E-4CB2-BE32-5F39A0C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A4C2-0352-46C6-A3E3-1E93E9D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CBD8-8A28-48AE-904A-33C4494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CBFC-6B3C-430B-A187-12627F48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B1FF-4162-41F0-9A0E-2039E6F0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7C6B-33C2-4482-869F-81D3069D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6F0E-8060-41BC-AECF-2854FD4E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2E3E-25EC-494F-A935-FFB830CF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E63E-C837-4B40-ABC9-F27D2EE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A00-081F-4E04-BC55-BECF2AA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EE41-3A83-46A0-B18E-BCDE4FB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B2B6-E095-46E5-B95B-377EB93C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712C-CA46-42F0-A589-D771BE4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10CC-0382-4C6D-8EB4-4AC2D71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E303-3C4B-4A0E-9509-7EA6B308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AAD5-37A8-4894-9C46-44E5807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DC251-A398-4B5B-A48B-200A173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CA3D-F90F-4A21-A721-E1227D91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332A-284B-4CB1-B2B9-20850B1D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9955-7D38-4CD8-8D59-BC18742A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E6E-CFE5-43E0-8BC9-7CB7218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1A99-A877-41A5-A3F2-2CE9F410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A3F4B-6C36-4774-B980-207A9291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CF77-0C80-4E97-96C6-A39FA30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51C8-C95A-4D68-A2E1-70E3F40C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9DBE-C5E8-447B-B6F4-6ADAF2A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2241-8CF8-40A1-BD2B-404DE0A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6A7B-271B-4CA2-B842-6B1A14B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699A-33FD-4208-9693-2814513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1E7E-FF69-487F-8D36-95DED7C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A52A-06D4-4570-9706-0CDCD07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1A5-E2E7-4D4E-BB7E-51C8405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8A5E-1ADC-4659-9998-DBDE6840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A668-9693-40CC-B1F6-FC2248F6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3102-052C-4317-986A-3B4E13D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C4CB-DA07-4978-9698-DABFA0E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B743-15BD-4131-BC43-D535A1B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563B-B0B4-4F91-8389-9FD3B0BF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1CDE-4FFB-41E2-9008-4377FEA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81EC-A35C-4660-857B-AA2CE0A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8DBE-BFCD-4BCA-8200-08F3AA9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FB9A6-8104-462B-90D1-EAC2503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CAA-D604-4932-BC54-66C78B3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3BD2B-FD8E-4657-AC79-CE99520C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6922-1ACD-420D-B80A-1EE2998B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AEE3-FF42-44DE-A0BF-08620AAE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DB24-3CF0-4FEF-9AEF-525AECE5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8491-4FFB-47DE-842F-731ABDA6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320FB-6978-4B22-BB59-DAFA3B4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2E39-AE75-428A-A88C-0FE90E2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8911-F935-449C-A1CB-5FEB992E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B341-43E2-4651-BB0B-18BE732B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CB34F-783D-4236-84ED-2FC8137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856-1122-40AB-9880-8C35CAC8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6FA71-3A9B-4ACB-AAE0-D3ABF95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3570-76D2-4ECD-AFDD-721E33D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4898-86BC-4B45-B5D4-B9918C5A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85C5-0718-4356-A812-14C6100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F07E-6B9B-40CD-B567-3E91065D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7BC3-A0AC-4117-84EA-1DBEE2E4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0141-16EB-4D0B-B4CD-4D47FAF1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1309-F3B3-4DA0-8113-6752238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C28E-F4CD-4B76-AFF5-807074C4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D230-63F5-48E5-A285-B0D2F8A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BFC-3E16-4C53-B625-C6BC449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4AEDC-5329-4CBD-A2C4-5D4A10DB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B4AF2-7EAA-4BAD-9A58-ADC2013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BCC9-FC4C-4236-B906-9FF44F6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D740-BC9C-4333-8BBD-1E12A49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2FC4-D450-4765-AB57-5E5F7BDE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DAD2-1603-4463-A9B6-FDAF45E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EE21-F622-406C-AB99-CA211011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79E45-5745-4C13-812F-807B758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9F9C-90B6-4C04-BD83-F8732ADE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9F947-8127-4F1A-A925-E0F3C13E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1D65-62EC-4F18-8C9B-A056C2769FE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887-A3C9-472A-8FAA-13D9CD36A94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6FB3-0291-45D0-B108-7F5AE7929EE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13C-7BC5-496A-AD83-25EC56B81AF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050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2051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2052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2204-9172-4FF3-B5EC-51569F8AE8D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4B7-7913-4D5C-A719-E031071A701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326-7DA7-4C90-86B2-7B870E9B2E6C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444-A29E-4064-A783-F0E772CD23A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25C-889E-4ECB-B0E9-7A1F8AEC53F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DBF-0A82-4F2D-9D57-1FBF96E9E9E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3A7B-6F79-49A8-A33A-35478868255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20FF-F2AA-4226-9AF9-EC74B8BC8D5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Matematica Finanzia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alcolo finanziario è utilizzato per  rendere omogenei tra loro valori che si verificano in epoche d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’interesse è il prezzo d’uso del capit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tasso (o saggio) d’interesse rappresenta il rendimento dell’unità di moneta nell’unità di tempo, cioè quanto rende un euro in un an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CasellaDiTesto 4"/>
          <p:cNvSpPr/>
          <p:nvPr/>
        </p:nvSpPr>
        <p:spPr>
          <a:xfrm>
            <a:off x="1928880" y="54291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of. Vincenzo Mat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TG Di Palo Sal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Arial"/>
              </a:rPr>
              <a:t>Le annualità: classificazio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Le annualità sono valori che si verificano ogni anno, possono ess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Costant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ono tutte uguali tr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Variabil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ono diverse di anno in an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Limit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manifestano solo per un numero limitato di anni  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Illimitat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= si manifestano per un numero illimitato di anni. Illimitato dal punto di vista economico (Infinito economico 80-100 ann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nticip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verificano all’inizio di ogni anno consid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Posticip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verificano alla fine di ogni anno consid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Arial"/>
              </a:rPr>
              <a:t>Le annualità: calcoli da svolge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Dal punto di vista matematico, interessa determinare la loro: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finale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lla fine del periodo considerato, non si può realizzare per le annualità illimi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iniziale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ll’inizio del periodo conside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intermedia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d un anno (m) intermedio nel periodo conside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n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finale di annualità (a) costanti limitate posticipate:</a:t>
            </a:r>
            <a:r>
              <a:rPr b="0" lang="it-IT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 fi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o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iziale di annualità (a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m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Arial"/>
              </a:rPr>
              <a:t>Annualità costanti limitate anticipate - A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finale di annualità (a) costanti limitate anticipate: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 * q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n = Accumulazione  fin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8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Annualità costanti limitate anticipate - A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iziale di annualità (a) costanti limitate anticipate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q 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nnualità costanti limitate anticipate - 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limitate an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q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* q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annualità riferito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mmortamento dei capitali: generalità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mmortamento dei capitali: calcolo della rata annu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i tratta delle operazioni finanziarie legate ai mutui ipotecari. Solitamente interessa determinare l’ammontare della rata periodica di mutuo e/o il valore di un mutuo residuo. In questa sede possiamo solo riferirci al mutuo a tasso costante, ipotizzando il pagamento di rate posticipate (se esse avessero scadenza diversa ci si deve adeguare). Si ragiona come se si operasse con rate annue costanti posticipate limi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o = a * ---------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a cu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M  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 * --------   ---&gt;  R = M 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 delle annualità     M = ammontare della somma mutu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                    R = valore della rata annu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i pagamenti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mmortamento dei capitali: caso general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mmortamento dei capitali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e le rate fossero di tipo semestrale, quadrimestrale, trimestrale, bimestrale o mensile, si dovrebbe adattare la formula precede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        (r/x) *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 = R * ----------------------   quindi  R = M * ---------------------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r/x) *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mmontare della somma mutu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valore della rata annu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gli anni del mutu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x = numero dei pagamenti infr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Il tasso di interesse: caratter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’ammontare del tasso di interesse di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 rischio dell’invest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la durata dell’invest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 mercato dei capit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 scelte di natura politica e/o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32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nnualità costanti illimitate posticipate - Ao</a:t>
            </a:r>
            <a:br>
              <a:rPr sz="4300"/>
            </a:b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Accumulazione iniziale di annualità (a) costanti illimitate posticipate: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                                              B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  ------          attenzione  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  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 iniziale                           V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medio di merca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                   Bf  = beneficio fondi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                                                       r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= tasso di capitalizzazion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pos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illimitate posticipate:</a:t>
            </a:r>
            <a:r>
              <a:rPr b="0" lang="it-IT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 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annualità (a) costanti illimitate anticipate:</a:t>
            </a: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 *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=   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 inizi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80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illimitate posticipate: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*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 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poliannualità: classifica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Le poliannualità sono valori che si verificano ogni (n) anni, possono esse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Costanti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ono tutte uguali tra l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Variabili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ono diverse tra l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Limitate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manifestano solo per un numero limitato di  turni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Illimit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manifestano per un numero illimitato di turni. Illimitato dal punto di vista economico (Infinito economico 80-100 an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Anticip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verificano all’inizio di ogni turno conside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Posticip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verificano alla fine di ogni turno conside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poliannualità: calcoli da svolge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al punto di vista matematico interessa determinare la lor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fin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lla fine del periodo considerato, non si può realizzare per le poliannualità illimi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inizi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ll’inizio del periodo conside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intermedi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d un anno (m) intermedio nel periodo conside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- At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finale di poliannualità (P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t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fin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–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o = P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–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 1         1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-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t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finale di poliannualità (P) costanti 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t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fi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nteresse sempl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viene detto semplice quando gli interessi  che maturano su un dato capitale in un certo tempo non si trasformano essi stessi in capitale, quindi non generano a loro volta interessi.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r *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 utilizza solitamente per investimenti che hanno durata minore o uguale ad un an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 = ammontare dell’intere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apitale inizi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tempo d'impiego del capitale, può essere espresso in gg/360; gg/365, in mm/12.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limitate anticipat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–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–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poliannualità riferita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8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pos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il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pos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il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-- 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il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il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- 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Montante ad Interesse sempli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appresenta la somma tra il valore del capitale iniziale e dei relativi interessi maturati in un certo periodo di tempo: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+ I      </a:t>
            </a:r>
            <a:r>
              <a:rPr b="1" lang="it-IT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+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r *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(1 + r * 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montante di un capit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 = ammontare dell’intere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apitale inizi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tempo d'impiego del capitale, può essere espresso in gg/360; gg/365, in mm/12.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a fine anno di rate infrannuali (mensili, bimestrali, ecc.)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256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appresenta la sommatoria riferita a fine anno dei montanti di rate che si manifestano con regolarità (ad esempio canoni di locazione) e che possono essere anticipate o posticipate rispetto al periodo di riferimento. Per tale operazione si utilizza la seguente formul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R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(n + r  ----------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sommatoria a fine anno dei montanti di rate infrannual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 = ammontare della singola r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+1  = se la rata è anticip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-1   = se la rata è posticip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: caratter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si dice composto quando gli interessi maturati  su un capitale in un certo tempo si sommano al capitale che li ha prodotti, generando,  a loro volta, degli interess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composto si suddivide in: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discontinuo annu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gli interessi si sommano al capitale che li ha prodotti alla fine di ogni anno;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convertibi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gli interessi si sommano al capitale che li ha prodotti più volte all'anno (semestralmente, trimestralmente, ecc. ec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continuo o matematic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ad ogni istante gli interessi si sommano al capitale che li ha prodotti, non ha utilità pratica.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</a:t>
            </a: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calcol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valore di un capitale investito per un numero (n) di anni, si determi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* q</a:t>
            </a:r>
            <a:r>
              <a:rPr b="0" lang="it-IT" sz="36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n = montante di un capitale investito per (n) anni ad interesse comp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 = Valore del corrispondente capital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durata dell’investimento del capitale in an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: valore attu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valore attuale di un capitale futuro disponibile tra un certo numero (n) di anni, si determi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n                         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= --------- = 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n *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-----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q</a:t>
            </a:r>
            <a:r>
              <a:rPr b="0" lang="it-IT" sz="3200" spc="-1" strike="noStrike" baseline="30000">
                <a:solidFill>
                  <a:srgbClr val="ffff00"/>
                </a:solidFill>
                <a:latin typeface="Arial"/>
              </a:rPr>
              <a:t>n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32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Montante di un capitale investito per (n) anni ad interesse comp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orrispondente capital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durata dell’investimento del capitale in an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Le rendi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 rendite sono valori che si presentano con una certa regolarità, possono esse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Annualit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= si verificano ogni anno, ad esempio il pagamento di una borsa di 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Poliannualit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si verificano ogni (n) anni, ad esempio il reddito ottenuto dal taglio di un bo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</dc:creator>
  <dc:description/>
  <dc:language>en-US</dc:language>
  <cp:lastModifiedBy> </cp:lastModifiedBy>
  <dcterms:modified xsi:type="dcterms:W3CDTF">2015-02-09T16:34:58Z</dcterms:modified>
  <cp:revision>32</cp:revision>
  <dc:subject/>
  <dc:title>Presentazione di PowerPoint</dc:title>
</cp:coreProperties>
</file>