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D27F-0842-41E4-B521-D0A0778FB97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489F-B95F-4425-BE29-E94C9E45C2C6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6CEC-BB53-4CBD-8721-2E6DA4257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EC67-02F2-468F-B5F6-6B93BBE4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91C8F-FA17-42FC-9090-33BB90EC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EED6DE-28EF-4AA8-BCF3-E60C3FE3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92BF4-7E47-4E07-AD76-49DB5710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07CCC-A672-46F3-9EF0-2EE70077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55C20-7437-42F0-9D03-6010F90C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C6E24-E2F8-402A-B3DA-A2F29F94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A3A59-7011-4CC8-9CC2-399B5A9E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53A1B-3661-4F6C-BE98-775985C82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6B9FE-B061-465D-842A-7C88A9CFB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5E8C9-FE26-4D2D-AE5D-A844803AD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5B7D-7B88-4381-8A82-D0DAF61DF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6DC0AB-8A2F-491B-8B61-065C402D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07BCC-A86F-4EB5-AF5A-E41D6B9F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85330-21B3-4A1B-9661-679846B5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064B80-A357-45E1-92DA-10F0B8E6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09B71-9B94-42F0-8C7E-E27F97F8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EBAE88-CBFF-4B9D-BF5E-AF30ED21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8DDAAF-122B-41CF-9A0C-D5A6D041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DD6141-2178-4681-8991-C6F392E3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EDFE3-8E80-4D88-B019-ECD43D12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2002F-E95B-449E-A462-1AA44974D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72CE-1523-4CE9-9469-5806CD2B1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B43C69-2BF2-409A-8A96-F80035A4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3C6A4-F968-4A19-8614-4A8B7AA9B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2626E-C5C6-4201-945A-7E751EE5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082CF-2507-4074-A7DC-439A5DA9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CA16E-65C1-4B06-8047-31F3A52C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D1AAB5-0572-4A4B-921B-4955CCB0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7EC5CF-12E6-4333-9687-AD648683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63D4D-8683-4D38-BF3C-C25BC4FA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6ECB9-AA61-4AF7-94A9-30D69EA5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90920-36DD-4A2F-A784-3A4026D9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8CDA-FD72-4D23-8FD9-6F069D4A1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A3AE9-1861-4114-8E84-7CEB9EEB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78F48-92EF-4F90-8904-0AA433535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4D9D6-9D70-4A37-A744-43D80471A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511CEB-ADBC-48DB-B8D1-92DF37D54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51941C-77D9-4E18-9C85-CDCED612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9D7D54-EBF8-439F-A528-07BF4740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8676A0-A6B3-4D1C-8E85-CDE9C9B1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74BC85-35A7-4BBE-A9F9-1FD80C42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522AEF-4026-4243-9AB3-1716E98A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B5C010-2296-4851-A05B-9592E44F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5302-37F9-4814-908D-1816C2FA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2DD992-3A77-405B-89A4-C8138706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974329-D5C4-4E6B-A8A6-3EA1A846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415B09-7199-41C0-81BA-4DC0F2CB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F1C2A3-A9CD-471A-AB86-61E9A08B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07C4A-2465-472D-BD31-C239B361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B401-9EC0-4F48-A25C-64364B06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C872-5E2F-417C-B3E4-65AB285D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B78F-9E0E-44D1-83C4-4F42C9C2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9192-FA30-4DFE-9DA1-36DC17CD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C218-E22A-4011-BDF1-8509BCAB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BD43-E72C-4D78-B174-91B2637C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E404-8210-40CD-BCE3-9D026E8E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B3B4-B1F1-4508-BFB7-752325B8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765C-9CE7-4ADA-AF44-2FDDB8D0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30DA-A439-485D-86D5-B35FC68D4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4539-87A3-4C56-9777-A1335759D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093BD-4E71-44E5-A39F-B907B90D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F2A13-FE8F-4581-BE42-03AFA901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626E7-2045-4C71-A2C7-D0A1991A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08BF0-8837-4295-95BF-F9FF3DBD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9DDF2-B156-4307-B38A-0BE563F1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71E5-A6A4-47C4-A681-0E6B646D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5B989-D248-49AA-83EB-BD454F6F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984FB-4232-486A-AC08-A75F5AA6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9FADB-7D36-4D2B-BDA5-1B133304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E8C69-10B9-4FCF-AEF6-A99D42D1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AC89B-8AF3-4F0E-9C4E-4F634FF9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BA93E-4924-40F5-9940-50E2805E3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CDC23-D057-499D-AB7F-545A5B63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9F873-9FFC-42D0-97DC-7FF0FDD92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950A1-B5D6-4521-BCC4-8D150E62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88B08-ED23-4910-8C32-CACC6920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10E7-60B1-4D94-B505-6DC7930D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674C9-001E-4ECA-AF6B-D3FBA77F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171EB-B470-41C1-9733-F715E1EB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41E26-2129-4E83-86CE-273AAF75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B7FBA-A276-4E0B-AC82-072DF688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564C2-4CE5-4CF2-822A-D1CB4856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81B2C-FC0A-44BA-967B-9424F3C0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3085D-4B87-4836-83B3-2E4A7820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D4BD8-A20E-4BB8-A70E-8D448353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3760F-8C05-4CFF-B58F-DBC595298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D259A-9B10-4C74-9D22-C0EAF94C9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7C2C-F7AC-4F5C-B388-8F731853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2E983-C4AF-40DE-AF12-6AE0459B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2C34C-8598-408A-810F-68FB9DB5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DD190-F95C-4689-A2A1-BA43E838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58BA5-53BA-478A-8C0C-7BCA86E6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D9AE2-B748-4CE0-ABED-28B29088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D04B2-2808-47F1-B2BF-24294629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637D8-DA4B-49F6-A14F-66728149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76B19-A8B9-42D4-818C-E35F8CF3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D9CD7-0D70-4C71-BEE3-73AF55D6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75077-9DDD-414C-8F5D-C452415F8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BD0B-2DF7-4CE4-A8C3-7B85D20D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6B122-DB3C-42EF-9402-5AF6CEE79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CE9F7-7A78-45A3-BC32-A41B1C0F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556FF-BA5D-4634-814F-83F36ED5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5E318-2B31-4DFB-8F0D-FE9FFC7D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7EF97-9B96-4467-A85A-AF749027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85B2D-5A43-411B-81E4-A12E95EC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39BF0-E800-40BC-B26D-BB24C78C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A5A53-475D-4CC4-ADC3-1F23D0B4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2C94F-F4CF-44B2-8675-0B66783A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88CE1-5535-4A95-AF66-86C42720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CCDF-2C9B-4363-A04F-07E8E87D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EE485-2BAC-4095-B833-85E3B455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50221-2662-4515-B8B1-78C91401D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F4793-2537-4F6F-9990-BD5DBAB1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5219D-8D1A-4ACA-9AB9-3CFF6EA91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89DA6-3ED8-4A92-B736-E84A4021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2143A-A070-49F8-ABCA-3A4F9113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E8CC2-A4DB-41A1-BDB2-BF5F415A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CAC3A-C3DC-4EBB-917B-A0B5A230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F7AE4-E4E6-41CC-BD20-B08A5726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E3B5D-517C-497B-9971-93B1E86B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254C-081B-4512-8996-E16CB236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0A1EC-4FD4-463F-A342-2680A44B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DBF0F-719A-4E2D-81EA-094C1B52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31B41-88D7-4201-A1F0-57D49795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8183B-46A2-4745-A691-EFCE5C379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3B0EE-ABD5-4B32-B572-6CB5EE2B6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85F64-BAA9-41D7-A71F-E25782BBC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385FD-631E-4FE6-B33F-62159C68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A3742-4ACD-465B-9263-6F16D60C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AAEEF-E1CA-4822-81B9-8570C810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61AB5-42A5-4208-8D67-69A920E5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02EC-83D5-43F4-B493-542BD882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FF5FB-7C41-46B9-B17A-D7CD56CC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D9B38-F5C2-4FC2-90BE-8FD8995D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C1359-4BC4-4D5A-92EB-EA4F9E80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85417-44B6-40D9-87A0-B9F6A97B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65278-BEE8-445B-9E18-48FAEFE1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AEDB3-D053-48E7-80A3-0D37B535C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C94D5-7018-4F3E-825F-48C410CB2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29E4B-2AD7-4587-9340-CFF5D4DBF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4241D-E4B7-478E-B52B-878EF707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00A977-3328-418E-B24F-45930279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Estimo -  Relatore: Antonio Ivan Orsenig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68B8-B989-4FCB-838E-2B998E3BD519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Estimo -  Relatore: Antonio Ivan Orsenig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FE19-C4EA-4D1F-A540-E782D4CD6F90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Estimo -  Relatore: Antonio Ivan Orsenig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6642-945C-4362-B0C6-36E3148E36FE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Estimo -  Relatore: Antonio Ivan Orsenig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76CB-B193-4612-A434-CD42D3D2821A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050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2051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2052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>
                <a:gd name="textAreaLeft" fmla="*/ 0 w 13452480"/>
                <a:gd name="textAreaRight" fmla="*/ 13452840 w 13452480"/>
                <a:gd name="textAreaTop" fmla="*/ 0 h 10794960"/>
                <a:gd name="textAreaBottom" fmla="*/ 10795320 h 1079496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Estimo -  Relatore: Antonio Ivan Orsenig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D08A-D990-413D-9E35-A1689BF4BE8C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Estimo -  Relatore: Antonio Ivan Orsenig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858A-1FF1-4087-99EF-F80293E80633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Estimo -  Relatore: Antonio Ivan Orsenig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E659-355E-42B5-B89C-FFFA695F28F5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Estimo -  Relatore: Antonio Ivan Orsenig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7652-3FBD-4EC4-9409-5EF27AB5B110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Estimo -  Relatore: Antonio Ivan Orsenig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F4D2-6E6F-4421-A14C-BCF8F1827C26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Estimo -  Relatore: Antonio Ivan Orsenig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C7A4-C32C-4FDE-9A56-82666645CF03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Estimo -  Relatore: Antonio Ivan Orsenig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A92E-8E5D-4745-9D00-FFF766F59CB9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>
                <a:gd name="textAreaLeft" fmla="*/ 0 w 16821000"/>
                <a:gd name="textAreaRight" fmla="*/ 16821360 w 16821000"/>
                <a:gd name="textAreaTop" fmla="*/ 0 h 13690800"/>
                <a:gd name="textAreaBottom" fmla="*/ 13691160 h 136908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Estimo -  Relatore: Antonio Ivan Orsenig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97C4-3FC2-4AE2-A73A-51756CBEA1C0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cc66"/>
                </a:solidFill>
                <a:latin typeface="Arial"/>
              </a:rPr>
              <a:t>        </a:t>
            </a:r>
            <a:r>
              <a:rPr b="0" lang="it-IT" sz="3600" spc="-1" strike="noStrike">
                <a:solidFill>
                  <a:srgbClr val="ffcc66"/>
                </a:solidFill>
                <a:latin typeface="Arial"/>
              </a:rPr>
              <a:t>Matematica Finanziari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Il calcolo finanziario è utilizzato per  rendere omogenei tra loro valori che si verificano in epoche diver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L’interesse è il prezzo d’uso del capita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cc66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Il tasso (o saggio) d’interesse rappresenta il rendimento dell’unità di moneta nell’unità di tempo, cioè quanto rende un euro in un ann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CasellaDiTesto 4"/>
          <p:cNvSpPr/>
          <p:nvPr/>
        </p:nvSpPr>
        <p:spPr>
          <a:xfrm>
            <a:off x="1928880" y="5429160"/>
            <a:ext cx="41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Prof. Vincenzo Matte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ITG Di Palo Sal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8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00"/>
                </a:solidFill>
                <a:latin typeface="Arial"/>
              </a:rPr>
              <a:t>Le annualità: classificazion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Le annualità sono valori che si verificano ogni anno, possono ess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Arial"/>
              </a:rPr>
              <a:t>Costanti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 = sono tutte uguali tra lo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Arial"/>
              </a:rPr>
              <a:t>Variabili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 = sono diverse di anno in an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Arial"/>
              </a:rPr>
              <a:t>Limitate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 = si manifestano solo per un numero limitato di anni  (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Arial"/>
              </a:rPr>
              <a:t>Illimitate 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= si manifestano per un numero illimitato di anni. Illimitato dal punto di vista economico (Infinito economico 80-100 anni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Arial"/>
              </a:rPr>
              <a:t>Anticipate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 = si verificano all’inizio di ogni anno considera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Arial"/>
              </a:rPr>
              <a:t>Posticipate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 = si verificano alla fine di ogni anno considera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5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00"/>
                </a:solidFill>
                <a:latin typeface="Arial"/>
              </a:rPr>
              <a:t>Le annualità: calcoli da svolger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0000"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Dal punto di vista matematico, interessa determinare la loro:</a:t>
            </a: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it-IT" sz="2800" spc="-1" strike="noStrike" baseline="-25000">
                <a:solidFill>
                  <a:srgbClr val="ffcc00"/>
                </a:solidFill>
                <a:latin typeface="Arial"/>
              </a:rPr>
              <a:t>n</a:t>
            </a:r>
            <a:r>
              <a:rPr b="0" lang="it-IT" sz="2800" spc="-1" strike="noStrike">
                <a:solidFill>
                  <a:srgbClr val="ffcc00"/>
                </a:solidFill>
                <a:latin typeface="Arial"/>
              </a:rPr>
              <a:t> = Accumulazione finale</a:t>
            </a: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= si tratta di portare il valore di tutte le annualità alla fine del periodo considerato, non si può realizzare per le annualità illimit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it-IT" sz="2800" spc="-1" strike="noStrike" baseline="-25000">
                <a:solidFill>
                  <a:srgbClr val="ffcc00"/>
                </a:solidFill>
                <a:latin typeface="Arial"/>
              </a:rPr>
              <a:t>o</a:t>
            </a:r>
            <a:r>
              <a:rPr b="0" lang="it-IT" sz="2800" spc="-1" strike="noStrike">
                <a:solidFill>
                  <a:srgbClr val="ffcc00"/>
                </a:solidFill>
                <a:latin typeface="Arial"/>
              </a:rPr>
              <a:t> = Accumulazione iniziale</a:t>
            </a: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= si tratta di portare il valore di tutte le annualità all’inizio del periodo considera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it-IT" sz="2800" spc="-1" strike="noStrike" baseline="-25000">
                <a:solidFill>
                  <a:srgbClr val="ffcc00"/>
                </a:solidFill>
                <a:latin typeface="Arial"/>
              </a:rPr>
              <a:t>m</a:t>
            </a:r>
            <a:r>
              <a:rPr b="0" lang="it-IT" sz="2800" spc="-1" strike="noStrike">
                <a:solidFill>
                  <a:srgbClr val="ffcc00"/>
                </a:solidFill>
                <a:latin typeface="Arial"/>
              </a:rPr>
              <a:t> = Accumulazione intermedia</a:t>
            </a: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= si tratta di portare il valore di tutte le annualità ad un anno (m) intermedio nel periodo considera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8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00"/>
                </a:solidFill>
                <a:latin typeface="Arial"/>
              </a:rPr>
              <a:t>Annualità costanti limitate posticipate - An</a:t>
            </a:r>
            <a:endParaRPr b="0" lang="en-US" sz="3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cc66"/>
                </a:solidFill>
                <a:latin typeface="Arial"/>
              </a:rPr>
              <a:t>Accumulazione final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Accumulazione finale di annualità (a) costanti limitate posticipate:</a:t>
            </a:r>
            <a:r>
              <a:rPr b="0" lang="it-IT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8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= a * ----------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= Accumulazione  fin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 = Valore della singola annualit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q = (1 + r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r = saggio o tasso d'interes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 = numero delle rate annual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1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80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00"/>
                </a:solidFill>
                <a:latin typeface="Arial"/>
              </a:rPr>
              <a:t>Annualità costanti limitate posticipate - Ao</a:t>
            </a:r>
            <a:endParaRPr b="0" lang="en-US" sz="3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cc66"/>
                </a:solidFill>
                <a:latin typeface="Arial"/>
              </a:rPr>
              <a:t>Accumulazione inizia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Accumulazione iniziale di annualità (a) costanti limitate posticipate: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–1   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= a * ----------- * ----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= Accumulazione  inizia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 = Valore della singola annualit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q = (1 + r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 = saggio o tasso d'interes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n = numero delle rate annual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4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80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00"/>
                </a:solidFill>
                <a:latin typeface="Arial"/>
              </a:rPr>
              <a:t>Annualità costanti limitate posticipate - Am</a:t>
            </a:r>
            <a:endParaRPr b="0" lang="en-US" sz="3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256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cc66"/>
                </a:solidFill>
                <a:latin typeface="Arial"/>
              </a:rPr>
              <a:t>Accumulazione intermedi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Accumulazione intermedia di annualità (a) costanti limitate posticipate: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–1         1                     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–1   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m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= a * ----------- * ------ * 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m  =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 * ----------- * -----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     r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-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6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= Accumulazione delle annualità riferite all’anno (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 = Valore della singola annualit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q = (1 + r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 = saggio o tasso d'interes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n = numero delle rate annual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 = anno a cui si riferisce l’accumulazio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7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80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66"/>
                </a:solidFill>
                <a:latin typeface="Arial"/>
              </a:rPr>
              <a:t>Annualità costanti limitate anticipate - An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cc66"/>
                </a:solidFill>
                <a:latin typeface="Arial"/>
              </a:rPr>
              <a:t>Accumulazione final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Accumulazione finale di annualità (a) costanti limitate anticipate: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  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8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= a * q * ----------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     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n = Accumulazione  fina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 = Valore della singola annualit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q = (1 + r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 = saggio o tasso d'interes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n = numero delle rate annual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0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8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Arial"/>
              </a:rPr>
              <a:t>Annualità costanti limitate anticipate - Ao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cc66"/>
                </a:solidFill>
                <a:latin typeface="Arial"/>
              </a:rPr>
              <a:t>Accumulazione inizia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Accumulazione iniziale di annualità (a) costanti limitate anticipate: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–1   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= a * q  * ----------- * ----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= Accumulazione inizia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 = Valore della singola annualit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q = (1 + r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 = saggio o tasso d'interes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n = numero delle rate annual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3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8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Annualità costanti limitate anticipate - Am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cc66"/>
                </a:solidFill>
                <a:latin typeface="Arial"/>
              </a:rPr>
              <a:t>Accumulazione intermedi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Accumulazione intermedia di annualità (a) costanti limitate anticipate: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–1         1                          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–1   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m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= a * q * ----------- * ------ * 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m  =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 * q * ----------- * -----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         r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-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6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= Accumulazione delle annualità riferito all’anno (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 = Valore della singola annualit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q = (1 + r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 = saggio o tasso d'interes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n = numero delle rate annual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 = anno a cui si riferisce l’accumulazio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6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8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Ammortamento dei capitali: generalità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cc66"/>
                </a:solidFill>
                <a:latin typeface="Arial"/>
              </a:rPr>
              <a:t>Ammortamento dei capitali: calcolo della rata annua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Si tratta delle operazioni finanziarie legate ai mutui ipotecari. Solitamente interessa determinare l’ammontare della rata periodica di mutuo e/o il valore di un mutuo residuo. In questa sede possiamo solo riferirci al mutuo a tasso costante, ipotizzando il pagamento di rate posticipate (se esse avessero scadenza diversa ci si deve adeguare). Si ragiona come se si operasse con rate annue costanti posticipate limit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–1                           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–1                        r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o = a * ---------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da cui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M  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=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R * --------   ---&gt;  R = M ------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                       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               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–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= Accumulazione iniziale delle annualità     M = ammontare della somma mutu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 = Valore della singola annualità                    R = valore della rata annu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q = (1 + r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 = saggio o tasso d'interes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n = numero dei pagamenti annual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9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7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Ammortamento dei capitali: caso general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cc66"/>
                </a:solidFill>
                <a:latin typeface="Arial"/>
              </a:rPr>
              <a:t>Ammortamento dei capitali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Se le rate fossero di tipo semestrale, quadrimestrale, trimestrale, bimestrale o mensile, si dovrebbe adattare la formula precedent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(1 + r/x)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x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–1                                (r/x) *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(1 + r/x)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x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M = R * ----------------------   quindi  R = M * ---------------------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(r/x) *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(1 + r/x)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xn                       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(1 + r/x)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x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–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 = ammontare della somma mutu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 = valore della rata annu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 = saggio o tasso d'interes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n = numero degli anni del mutu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x = numero dei pagamenti infrannual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2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cc66"/>
                </a:solidFill>
                <a:latin typeface="Arial"/>
              </a:rPr>
              <a:t>Il tasso di interesse: caratteri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L’ammontare del tasso di interesse dipen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dal rischio dell’investim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dalla durata dell’investim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dal mercato dei capita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da scelte di natura politica e/o econom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1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32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it-IT" sz="3000" spc="-1" strike="noStrike">
                <a:solidFill>
                  <a:srgbClr val="ffff00"/>
                </a:solidFill>
                <a:latin typeface="Arial"/>
              </a:rPr>
              <a:t>nnualità costanti illimitate posticipate - Ao</a:t>
            </a:r>
            <a:br>
              <a:rPr sz="4300"/>
            </a:br>
            <a:endParaRPr b="0" lang="en-US" sz="3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cc66"/>
                </a:solidFill>
                <a:latin typeface="Arial"/>
              </a:rPr>
              <a:t>Accumulazione inizia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Arial"/>
              </a:rPr>
              <a:t>Accumulazione iniziale di annualità (a) costanti illimitate posticipate:</a:t>
            </a:r>
            <a:r>
              <a:rPr b="0" lang="it-IT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                                               B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=   ------          attenzione  </a:t>
            </a:r>
            <a:r>
              <a:rPr b="0" lang="it-IT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V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=   ----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= Accumulazione  iniziale                           V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= valore medio di merca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 = Valore della singola annualità                   Bf  = beneficio fondia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q = (1 + r)                                                        r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= tasso di capitalizzazione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 = saggio o tasso d'interes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5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80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Annualità costanti illimitate posticipate - Am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256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cc66"/>
                </a:solidFill>
                <a:latin typeface="Arial"/>
              </a:rPr>
              <a:t>Accumulazione intermedi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Accumulazione intermedia di annualità (a) costanti illimitate posticipate:</a:t>
            </a:r>
            <a:r>
              <a:rPr b="0" lang="it-IT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Arial"/>
              </a:rPr>
              <a:t>m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= ------  * q</a:t>
            </a:r>
            <a:r>
              <a:rPr b="0" lang="it-IT" sz="2800" spc="-1" strike="noStrike" baseline="30000">
                <a:solidFill>
                  <a:srgbClr val="ffff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8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= Accumulazione delle annualità riferite all’anno (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 = Valore della singola annualit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q = (1 + r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r = saggio o tasso d'interes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m = anno a cui si riferisce l’accumulazi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8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80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Annualità costanti illimitate anticipate - Ao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cc66"/>
                </a:solidFill>
                <a:latin typeface="Arial"/>
              </a:rPr>
              <a:t>Accumulazione iniziale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Arial"/>
              </a:rPr>
              <a:t>Accumulazione iniziale di annualità (a) costanti illimitate anticipate:</a:t>
            </a:r>
            <a:r>
              <a:rPr b="0" lang="it-IT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a * 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it-IT" sz="32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=   -----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= Accumulazione  inizi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 = Valore della singola annualit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q = (1 + r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r = saggio o tasso d'interes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1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80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Annualità costanti illimitate anticipate - Am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256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cc66"/>
                </a:solidFill>
                <a:latin typeface="Arial"/>
              </a:rPr>
              <a:t>Accumulazione intermedi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Accumulazione intermedia di annualità (a) costanti illimitate posticipate: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 * q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Arial"/>
              </a:rPr>
              <a:t>m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= ---------  * q</a:t>
            </a:r>
            <a:r>
              <a:rPr b="0" lang="it-IT" sz="2800" spc="-1" strike="noStrike" baseline="30000">
                <a:solidFill>
                  <a:srgbClr val="ffff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8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= Accumulazione delle annualità riferite all’anno (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 = Valore della singola annualit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q = (1 + r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r = saggio o tasso d'interes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m = anno a cui si riferisce l’accumulazi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4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80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Le poliannualità: classificazion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Le poliannualità sono valori che si verificano ogni (n) anni, possono esse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Arial"/>
              </a:rPr>
              <a:t>Costanti 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= sono tutte uguali tra lo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Arial"/>
              </a:rPr>
              <a:t>Variabili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 = sono diverse tra lo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Arial"/>
              </a:rPr>
              <a:t>Limitate 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= si manifestano solo per un numero limitato di  turni (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Arial"/>
              </a:rPr>
              <a:t>Illimitate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 = si manifestano per un numero illimitato di turni. Illimitato dal punto di vista economico (Infinito economico 80-100 anni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Arial"/>
              </a:rPr>
              <a:t>Anticipate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 = si verificano all’inizio di ogni turno considera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Arial"/>
              </a:rPr>
              <a:t>Posticipate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 = si verificano alla fine di ogni turno considera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7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80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Le poliannualità: calcoli da svolgere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Dal punto di vista matematico interessa determinare la loro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Arial"/>
              </a:rPr>
              <a:t>tn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= Accumulazione finale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= si tratta di portare il valore di tutte le poliannualità alla fine del periodo considerato, non si può realizzare per le poliannualità illimit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= Accumulazione iniziale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= si tratta di portare il valore di tutte le poliannualità all’inizio del periodo considera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Arial"/>
              </a:rPr>
              <a:t>m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= Accumulazione intermedia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= si tratta di portare il valore di tutte le poliannualità ad un anno (m) intermedio nel periodo considera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0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5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Poliannualità costanti limitate posticipate - Atn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cc66"/>
                </a:solidFill>
                <a:latin typeface="Arial"/>
              </a:rPr>
              <a:t>Accumulazione fina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Arial"/>
              </a:rPr>
              <a:t>Accumulazione finale di poliannualità (P) costanti limitate posticipate: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t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t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= P * ---------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-1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600" spc="-1" strike="noStrike" baseline="-25000">
                <a:solidFill>
                  <a:srgbClr val="ffffff"/>
                </a:solidFill>
                <a:latin typeface="Arial"/>
              </a:rPr>
              <a:t>tn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= Accumulazione fina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P = Valore della singola poliannualit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q = (1 + r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 = saggio o tasso d'interes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n = numero di anni che intercorre tra una rendita e la success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t =  numero dei turni = quante volte si verifica la poliannualit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3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80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Poliannualità costanti limitate posticipate – Ao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cc66"/>
                </a:solidFill>
                <a:latin typeface="Arial"/>
              </a:rPr>
              <a:t>Accumulazione inizia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Arial"/>
              </a:rPr>
              <a:t>Accumulazione iniziale di poliannualità (P) costanti limitate posticipat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t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–1  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o = P * ----------- * ----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-1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t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= Accumulazione inizia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P = Valore della singola poliannualit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q = (1 + r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 = saggio o tasso d'interes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n = numero di anni che intercorre tra una rendita e la success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t =  numero dei turni = quante volte si verifica la poliannualit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6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80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Poliannualità costanti limitate posticipate –Am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256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cc66"/>
                </a:solidFill>
                <a:latin typeface="Arial"/>
              </a:rPr>
              <a:t>Accumulazione intermedi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Arial"/>
              </a:rPr>
              <a:t>Accumulazione intermedia di poliannualità (P) costanti limitate posticipate: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t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- 1         1                     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t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–1   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m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= P * ----------- * ------ * 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m  =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P * ----------- * -----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- 1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         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t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 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- 1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-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6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= Accumulazione delle poliannualità riferito all’anno (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P = Valore della singola poliannualit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q = (1 + r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 = saggio o tasso d'interes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n = numero di anni che intercorre tra una rendita e la success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t =  numero dei turni = quante volte si verifica la poliannualit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9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80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Poliannualità costanti limitate anticipate - Atn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cc66"/>
                </a:solidFill>
                <a:latin typeface="Arial"/>
              </a:rPr>
              <a:t>Accumulazione final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Arial"/>
              </a:rPr>
              <a:t>Accumulazione finale di poliannualità (P) costanti limitate anticipat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800" spc="-1" strike="noStrike" baseline="30000">
                <a:solidFill>
                  <a:srgbClr val="ffff00"/>
                </a:solidFill>
                <a:latin typeface="Arial"/>
              </a:rPr>
              <a:t>tn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Arial"/>
              </a:rPr>
              <a:t>tn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= P * q</a:t>
            </a:r>
            <a:r>
              <a:rPr b="0" lang="it-IT" sz="28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* ----------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8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-1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800" spc="-1" strike="noStrike" baseline="-25000">
                <a:solidFill>
                  <a:srgbClr val="ffffff"/>
                </a:solidFill>
                <a:latin typeface="Arial"/>
              </a:rPr>
              <a:t>tn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= Accumulazione fin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P = Valore della singola poliannualit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q = (1 + r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r = saggio o tasso d'interes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 = numero di anni che intercorre tra una rendita e la success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 =  numero dei turni = quante volte si verifica la poliannualit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2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66"/>
                </a:solidFill>
                <a:latin typeface="Arial"/>
              </a:rPr>
              <a:t>Interesse sempli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9966"/>
                </a:solidFill>
                <a:latin typeface="Arial"/>
              </a:rPr>
              <a:t> 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L'interesse viene detto semplice quando gli interessi  che maturano su un dato capitale in un certo tempo non si trasformano essi stessi in capitale, quindi non generano a loro volta interessi.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I = C</a:t>
            </a:r>
            <a:r>
              <a:rPr b="1" lang="it-IT" sz="32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* r * 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Si utilizza solitamente per investimenti che hanno durata minore o uguale ad un ann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I  = ammontare dell’interes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it-IT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= Valore del capitale inizial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 = saggio o tasso d'interesse, viene espresso generalmente in termini %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t = tempo d'impiego del capitale, può essere espresso in gg/360; gg/365, in mm/12.</a:t>
            </a: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4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80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Poliannualità costanti limitate anticipate - Ao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cc66"/>
                </a:solidFill>
                <a:latin typeface="Arial"/>
              </a:rPr>
              <a:t>Accumulazione inizia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Arial"/>
              </a:rPr>
              <a:t>Accumulazione iniziale di poliannualità (P) costanti limitate anticipate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t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–1  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= P * 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* ----------- * ----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-1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t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= Accumulazione inizia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P = Valore della singola poliannualit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q = (1 + r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 = saggio o tasso d'interes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n = numero di anni che intercorre tra una rendita e la success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t =  numero dei turni = quante volte si verifica la poliannualit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5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80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Poliannualità costanti limitate anticipate - Am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7000"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cc66"/>
                </a:solidFill>
                <a:latin typeface="Arial"/>
              </a:rPr>
              <a:t>Accumulazione intermedi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Arial"/>
              </a:rPr>
              <a:t>Accumulazione intermedia di poliannualità (P) costanti limitate anticipat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t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–1         1                             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t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–1 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m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= P * 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* ----------- * ------ * 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m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P * 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* ---------- * -----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– 1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t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               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– 1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tn-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6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= Accumulazione delle poliannualità riferita all’anno (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P = Valore della singola poliannualit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q = (1 + r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 = saggio o tasso d'interes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n = numero di anni che intercorre tra una rendita e la success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t =  numero dei turni = quante volte si verifica la poliannualità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 = anno a cui si riferisce l’accumulazio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8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Poliannualità costanti illimitate posticipate - Ao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cc66"/>
                </a:solidFill>
                <a:latin typeface="Arial"/>
              </a:rPr>
              <a:t>Accumulazione inizia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Arial"/>
              </a:rPr>
              <a:t>Accumulazione iniziale di poliannualità (P) costanti illimitate posticipat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= ---------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-1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= Accumulazione inizia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P = Valore della singola poliannualit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q = (1 + r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 = saggio o tasso d'interes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n = numero di anni che intercorre tra una rendita e la success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0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8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Poliannualità costanti illimitate posticipate - Am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256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cc66"/>
                </a:solidFill>
                <a:latin typeface="Arial"/>
              </a:rPr>
              <a:t>Accumulazione intermedi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Arial"/>
              </a:rPr>
              <a:t>Accumulazione intermedia di poliannualità (P) costanti illimitate posticipat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P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Arial"/>
              </a:rPr>
              <a:t>m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= -----------  q</a:t>
            </a:r>
            <a:r>
              <a:rPr b="0" lang="it-IT" sz="2800" spc="-1" strike="noStrike" baseline="30000">
                <a:solidFill>
                  <a:srgbClr val="ffff00"/>
                </a:solidFill>
                <a:latin typeface="Arial"/>
              </a:rPr>
              <a:t>m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8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- 1</a:t>
            </a:r>
            <a:r>
              <a:rPr b="0" lang="it-IT" sz="2800" spc="-1" strike="noStrike" baseline="30000">
                <a:solidFill>
                  <a:srgbClr val="ffff00"/>
                </a:solidFill>
                <a:latin typeface="Arial"/>
              </a:rPr>
              <a:t>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8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= Accumulazione delle poliannualità riferito all’anno (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P = Valore della singola poliannualit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q = (1 + r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r = saggio o tasso d'interes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 = numero di anni che intercorre tra una rendita e la success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3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5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Poliannualità costanti illimitate anticipate - Ao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cc66"/>
                </a:solidFill>
                <a:latin typeface="Arial"/>
              </a:rPr>
              <a:t>Accumulazione inizia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Arial"/>
              </a:rPr>
              <a:t>Accumulazione iniziale di poliannualità (P) costanti illimitate anticipat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P * 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it-IT" sz="24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= ---------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4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-1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= Accumulazione inizia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P = Valore della singola poliannualit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q = (1 + r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 = saggio o tasso d'interes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n = numero di anni che intercorre tra una rendita e la success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6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80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Poliannualità costanti illimitate anticipate - Am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256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cc66"/>
                </a:solidFill>
                <a:latin typeface="Arial"/>
              </a:rPr>
              <a:t>Accumulazione intermedi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Arial"/>
              </a:rPr>
              <a:t>Accumulazione intermedia di poliannualità (P) costanti illimitate anticipat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P * q</a:t>
            </a:r>
            <a:r>
              <a:rPr b="0" lang="it-IT" sz="28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it-IT" sz="2800" spc="-1" strike="noStrike" baseline="-25000">
                <a:solidFill>
                  <a:srgbClr val="ffff00"/>
                </a:solidFill>
                <a:latin typeface="Arial"/>
              </a:rPr>
              <a:t>m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= ----------  q</a:t>
            </a:r>
            <a:r>
              <a:rPr b="0" lang="it-IT" sz="2800" spc="-1" strike="noStrike" baseline="30000">
                <a:solidFill>
                  <a:srgbClr val="ffff00"/>
                </a:solidFill>
                <a:latin typeface="Arial"/>
              </a:rPr>
              <a:t>m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28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2800" spc="-1" strike="noStrike">
                <a:solidFill>
                  <a:srgbClr val="ffff00"/>
                </a:solidFill>
                <a:latin typeface="Arial"/>
              </a:rPr>
              <a:t> - 1</a:t>
            </a:r>
            <a:r>
              <a:rPr b="0" lang="it-IT" sz="2800" spc="-1" strike="noStrike" baseline="30000">
                <a:solidFill>
                  <a:srgbClr val="ffff00"/>
                </a:solidFill>
                <a:latin typeface="Arial"/>
              </a:rPr>
              <a:t>  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t-IT" sz="18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= Accumulazione delle poliannualità riferito all’anno (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P = Valore della singola poliannualit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q = (1 + r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r = saggio o tasso d'interes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 = numero di anni che intercorre tra una rendita e la success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9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80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66"/>
                </a:solidFill>
                <a:latin typeface="Arial"/>
              </a:rPr>
              <a:t>Montante ad Interesse semplic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256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9966"/>
                </a:solidFill>
                <a:latin typeface="Arial"/>
              </a:rPr>
              <a:t> 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Rappresenta la somma tra il valore del capitale iniziale e dei relativi interessi maturati in un certo periodo di tempo: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32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M = C</a:t>
            </a:r>
            <a:r>
              <a:rPr b="1" lang="it-IT" sz="32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 + I      </a:t>
            </a:r>
            <a:r>
              <a:rPr b="1" lang="it-IT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     M = C</a:t>
            </a:r>
            <a:r>
              <a:rPr b="1" lang="it-IT" sz="32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  + C</a:t>
            </a:r>
            <a:r>
              <a:rPr b="1" lang="it-IT" sz="32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* r * 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M = C</a:t>
            </a:r>
            <a:r>
              <a:rPr b="1" lang="it-IT" sz="3200" spc="-1" strike="noStrike" baseline="-25000">
                <a:solidFill>
                  <a:srgbClr val="ffff00"/>
                </a:solidFill>
                <a:latin typeface="Arial"/>
              </a:rPr>
              <a:t>o </a:t>
            </a: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* (1 + r * t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 = montante di un capital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I  = ammontare dell’interes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it-IT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= Valore del capitale inizial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 = saggio o tasso d'interesse, viene espresso generalmente in termini %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t = tempo d'impiego del capitale, può essere espresso in gg/360; gg/365, in mm/12.</a:t>
            </a: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7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0805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cc66"/>
                </a:solidFill>
                <a:latin typeface="Arial"/>
              </a:rPr>
              <a:t>Accumulazione a fine anno di rate infrannuali (mensili, bimestrali, ecc.)</a:t>
            </a:r>
            <a:endParaRPr b="0" lang="en-US" sz="3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256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Rappresenta la sommatoria riferita a fine anno dei montanti di rate che si manifestano con regolarità (ad esempio canoni di locazione) e che possono essere anticipate o posticipate rispetto al periodo di riferimento. Per tale operazione si utilizza la seguente formula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                                </a:t>
            </a: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n </a:t>
            </a:r>
            <a:r>
              <a:rPr b="1" lang="it-IT" sz="3200" spc="-1" strike="noStrike">
                <a:solidFill>
                  <a:srgbClr val="ffff00"/>
                </a:solidFill>
                <a:latin typeface="Symbol"/>
                <a:ea typeface="Symbol"/>
              </a:rPr>
              <a:t></a:t>
            </a: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it-IT" sz="3200" spc="-1" strike="noStrike">
                <a:solidFill>
                  <a:srgbClr val="ffff00"/>
                </a:solidFill>
                <a:latin typeface="Symbol"/>
                <a:ea typeface="Symbol"/>
              </a:rPr>
              <a:t></a:t>
            </a: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M = R</a:t>
            </a:r>
            <a:r>
              <a:rPr b="1" lang="it-IT" sz="32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* (n + r  ----------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                                                          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 = sommatoria a fine anno dei montanti di rate infrannuali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  = ammontare della singola r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n = numero delle rate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 = saggio o tasso d'interesse, viene espresso generalmente in termini %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+1  = se la rata è anticip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-1   = se la rata è posticip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0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80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66"/>
                </a:solidFill>
                <a:latin typeface="Arial"/>
              </a:rPr>
              <a:t>Interesse composto: caratteri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9966"/>
                </a:solidFill>
                <a:latin typeface="Arial"/>
              </a:rPr>
              <a:t> 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L'interesse si dice composto quando gli interessi maturati  su un capitale in un certo tempo si sommano al capitale che li ha prodotti, generando,  a loro volta, degli interessi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L'interesse composto si suddivide in: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interesse composto discontinuo annuo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: gli interessi si sommano al capitale che li ha prodotti alla fine di ogni anno; 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interesse composto convertibile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: gli interessi si sommano al capitale che li ha prodotti più volte all'anno (semestralmente, trimestralmente, ecc. ecc.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interesse composto continuo o matematico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: ad ogni istante gli interessi si sommano al capitale che li ha prodotti, non ha utilità pratica. </a:t>
            </a:r>
            <a:br>
              <a:rPr sz="2000"/>
            </a:b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3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66"/>
                </a:solidFill>
                <a:latin typeface="Arial"/>
              </a:rPr>
              <a:t>Interesse composto</a:t>
            </a:r>
            <a:r>
              <a:rPr b="0" lang="it-IT" sz="3600" spc="-1" strike="noStrike">
                <a:solidFill>
                  <a:srgbClr val="ffcc66"/>
                </a:solidFill>
                <a:latin typeface="Arial"/>
              </a:rPr>
              <a:t>: </a:t>
            </a:r>
            <a:r>
              <a:rPr b="1" lang="it-IT" sz="3600" spc="-1" strike="noStrike">
                <a:solidFill>
                  <a:srgbClr val="ffcc66"/>
                </a:solidFill>
                <a:latin typeface="Arial"/>
              </a:rPr>
              <a:t>calcolo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l valore di un capitale investito per un numero (n) di anni, si determin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it-IT" sz="36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= C</a:t>
            </a:r>
            <a:r>
              <a:rPr b="0" lang="it-IT" sz="36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it-IT" sz="3600" spc="-1" strike="noStrike">
                <a:solidFill>
                  <a:srgbClr val="ffff00"/>
                </a:solidFill>
                <a:latin typeface="Arial"/>
              </a:rPr>
              <a:t> * q</a:t>
            </a:r>
            <a:r>
              <a:rPr b="0" lang="it-IT" sz="36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Legenda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n = montante di un capitale investito per (n) anni ad interesse comp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o = Valore del corrispondente capitale inizia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q = (1 + r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 = saggio o tasso d'interes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n = durata dell’investimento del capitale in ann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6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66"/>
                </a:solidFill>
                <a:latin typeface="Arial"/>
              </a:rPr>
              <a:t>Interesse composto: valore attual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l valore attuale di un capitale futuro disponibile tra un certo numero (n) di anni, si determin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it-IT" sz="3200" spc="-1" strike="noStrike" baseline="-25000">
                <a:solidFill>
                  <a:srgbClr val="ffff00"/>
                </a:solidFill>
                <a:latin typeface="Arial"/>
              </a:rPr>
              <a:t>n                         </a:t>
            </a:r>
            <a:r>
              <a:rPr b="0" lang="it-IT" sz="36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                     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it-IT" sz="32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= --------- = C</a:t>
            </a:r>
            <a:r>
              <a:rPr b="0" lang="it-IT" sz="3200" spc="-1" strike="noStrike" baseline="-25000">
                <a:solidFill>
                  <a:srgbClr val="ffff00"/>
                </a:solidFill>
                <a:latin typeface="Arial"/>
              </a:rPr>
              <a:t>n *  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-----                                         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       q</a:t>
            </a:r>
            <a:r>
              <a:rPr b="0" lang="it-IT" sz="3200" spc="-1" strike="noStrike" baseline="30000">
                <a:solidFill>
                  <a:srgbClr val="ffff00"/>
                </a:solidFill>
                <a:latin typeface="Arial"/>
              </a:rPr>
              <a:t>n                         </a:t>
            </a: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q</a:t>
            </a:r>
            <a:r>
              <a:rPr b="0" lang="it-IT" sz="3200" spc="-1" strike="noStrike" baseline="30000">
                <a:solidFill>
                  <a:srgbClr val="ffff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Legend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it-IT" sz="16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= Montante di un capitale investito per (n) anni ad interesse comp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it-IT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= Valore del corrispondente capitale inizia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q = (1 + r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 = saggio o tasso d'interes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n = durata dell’investimento del capitale in ann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9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cc66"/>
                </a:solidFill>
                <a:latin typeface="Arial"/>
              </a:rPr>
              <a:t>Le rendit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Le rendite sono valori che si presentano con una certa regolarità, possono esser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00"/>
                </a:solidFill>
                <a:latin typeface="Arial"/>
              </a:rPr>
              <a:t>Annualità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 = si verificano ogni anno, ad esempio il pagamento di una borsa di stu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00"/>
                </a:solidFill>
                <a:latin typeface="Arial"/>
              </a:rPr>
              <a:t>Poliannualità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 = si verificano ogni (n) anni, ad esempio il reddito ottenuto dal taglio di un bos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2" name="Immagine 12" descr="logo di palo.JPG"/>
          <p:cNvPicPr/>
          <p:nvPr/>
        </p:nvPicPr>
        <p:blipFill>
          <a:blip r:embed="rId1"/>
          <a:stretch/>
        </p:blipFill>
        <p:spPr>
          <a:xfrm>
            <a:off x="6643800" y="6215040"/>
            <a:ext cx="1942920" cy="333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tente</dc:creator>
  <dc:description/>
  <dc:language>en-US</dc:language>
  <cp:lastModifiedBy> </cp:lastModifiedBy>
  <dcterms:modified xsi:type="dcterms:W3CDTF">2015-02-09T16:34:58Z</dcterms:modified>
  <cp:revision>32</cp:revision>
  <dc:subject/>
  <dc:title>Presentazione di PowerPoint</dc:title>
</cp:coreProperties>
</file>